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8A19-A720-406F-8865-174FE0EE3B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0B9A-DE42-40C5-A994-28BE8083A3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27AD-CAD9-4A6A-A947-1CACF1541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5835-F013-4FA6-9ECC-91C9D5FA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9E2D-120F-4E9B-83A3-080F923E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6386-66BA-4CB5-8BF2-106AC6CC3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37ED-CC46-4AAC-9E86-5ADD6602E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69A2-1F4C-411E-8852-FD2C6B69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62FF-FCBE-4848-94B7-B53B70C2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9330-7994-4723-99DA-9D6E3BB7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0B29-72E8-48E2-935B-4C1AC681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CCE9-B674-40D2-B1A8-A2C823F6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FC92-10ED-4A04-B8D0-FECE4464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2C55-0757-4BFA-A7C1-B8DD8C73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3A52-2FF4-41CD-BEF5-F0F49E61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6147-964F-45CB-9800-9111E46C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A5D5-D89F-4797-9246-1D839D36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F678-59A9-433B-AE7E-DF3D34789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748B-0543-4A52-9F17-B0B06F2F9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1209D-B388-45AA-B672-2822B1194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5EFB2-F176-4DC5-87E6-2996C74A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3C60C-13E5-4792-AAEE-7BE6AC4E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35F41-31AA-4ED4-ABC3-AEFCEEA9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54656-F292-485F-81BF-7799684E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A70D-1C93-4B50-85CD-A418CAE6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F6EB6-F507-4C28-8AE2-5C9F9ECB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86796-FE67-455B-9501-2F1CAFB6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6DE6C-4A33-4EEB-81C5-02C9FC8F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C53B1-97C8-4AD2-9C5D-D918F52E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6245C-CA89-42DA-9EF6-86D272D0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71987-181A-4B72-BB2E-B15906F0B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34C2C-1F06-40CC-90EB-3CDFD0D98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0150C-4E61-46E0-A7CD-CA9097B7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B7DF3-B3D3-4B9C-8F1B-19E6F0B7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6B33D-6F39-4602-B718-8826BCAB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FF15-3ED8-4E7F-ADBA-A6646618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0715A-D5E0-493E-AD3E-9239FEAF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FAA95-338A-47C4-A9D6-9D092F0E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64AD1-E098-440B-BE10-05F79953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3CC63-B1C8-4DE5-AD2E-180F1B11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02744-8C0C-4A27-912A-A1653273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8ECAC-5763-48EF-982E-D1B9B699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B79D8-B068-4E77-9346-096C4193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F5EF3-442E-4B53-A46D-28E40118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C6D61-66F8-4C72-8BC6-0B4D84E36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210CF-6D28-4127-BDC6-88FDB14D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860F-C6A1-4252-B276-BC835CA3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809E2-1ACA-4B5D-A790-3D187C1F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3C7A9-63AB-4859-9501-0BF72E6B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E17EB-D8BB-4437-8350-84E0D454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581B0-EA1E-4204-AFE7-1E40FB0D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256C7-2CE0-4AE1-A291-4A26654C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6D689-101F-4C84-8531-57D3F858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EBEFE-8C98-499F-9CD8-573E7109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DCB48-4AB6-4867-BF16-57EB6ABD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02AA3-12C3-4147-A4D0-040B7D15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2C8F8-8C65-4B82-8030-445A6D86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B5E5-AAD2-44A5-9258-A2D40A2B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29CC1-AA62-49C3-939E-60F743C2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8270-ADA5-471A-904E-DDD9EB7C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2ED3-4268-4E95-AA70-5BB1AE00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0880-5695-4BA5-998F-7C711D4C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5236-019A-4B30-89F6-FFBBE1EDEC4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3547-EAFC-41D0-B7F7-1625A1AF14D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403F-63B8-4E7D-B1CE-CAC19ACAD8E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C302-BCA6-4DB1-8A7F-F3D521ABD46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95EA-4661-4B02-9291-5CF8578DE8B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Users\79995\Desktop\изонить\Тема  Морские просторы\12538ee1109f5012f56798dece3w-derevo-korabl.jpg"/>
          <p:cNvPicPr/>
          <p:nvPr/>
        </p:nvPicPr>
        <p:blipFill>
          <a:blip r:embed="rId2"/>
          <a:stretch/>
        </p:blipFill>
        <p:spPr>
          <a:xfrm>
            <a:off x="3203640" y="2708280"/>
            <a:ext cx="5006880" cy="39006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Users\79995\Desktop\изонить\Тема  Морские просторы\7dcc763d749d5a63775c0fecaffd8c74.jpg"/>
          <p:cNvPicPr/>
          <p:nvPr/>
        </p:nvPicPr>
        <p:blipFill>
          <a:blip r:embed="rId3"/>
          <a:stretch/>
        </p:blipFill>
        <p:spPr>
          <a:xfrm>
            <a:off x="395280" y="2637000"/>
            <a:ext cx="223200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C:\Users\79995\Desktop\изонить\Тема  Морские просторы 2\U15_06-07a09.jpg"/>
          <p:cNvPicPr/>
          <p:nvPr/>
        </p:nvPicPr>
        <p:blipFill>
          <a:blip r:embed="rId1"/>
          <a:stretch/>
        </p:blipFill>
        <p:spPr>
          <a:xfrm>
            <a:off x="1332000" y="1000080"/>
            <a:ext cx="6286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5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Users\79995\Desktop\изонить\Тема  Морские просторы\368823.jpg"/>
          <p:cNvPicPr/>
          <p:nvPr/>
        </p:nvPicPr>
        <p:blipFill>
          <a:blip r:embed="rId1"/>
          <a:stretch/>
        </p:blipFill>
        <p:spPr>
          <a:xfrm>
            <a:off x="755640" y="1197000"/>
            <a:ext cx="74754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C:\Users\79995\Desktop\изонить\Тема  Морские просторы\e88aa9edf47a1b434f674b817646d918.jpg"/>
          <p:cNvPicPr/>
          <p:nvPr/>
        </p:nvPicPr>
        <p:blipFill>
          <a:blip r:embed="rId1"/>
          <a:stretch/>
        </p:blipFill>
        <p:spPr>
          <a:xfrm>
            <a:off x="395280" y="1052640"/>
            <a:ext cx="4105440" cy="5472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C:\Users\79995\Desktop\изонить\Тема  Морские просторы\eeaac8ad44d80de26c0a8bb3d49f9304.jpg"/>
          <p:cNvPicPr/>
          <p:nvPr/>
        </p:nvPicPr>
        <p:blipFill>
          <a:blip r:embed="rId2"/>
          <a:stretch/>
        </p:blipFill>
        <p:spPr>
          <a:xfrm>
            <a:off x="4788000" y="1052640"/>
            <a:ext cx="41450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C:\Users\79995\Desktop\изонить\Тема  Морские просторы\img5.jpg"/>
          <p:cNvPicPr/>
          <p:nvPr/>
        </p:nvPicPr>
        <p:blipFill>
          <a:blip r:embed="rId1"/>
          <a:stretch/>
        </p:blipFill>
        <p:spPr>
          <a:xfrm>
            <a:off x="1187280" y="11970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2-05T11:30:34Z</dcterms:modified>
  <cp:revision>36</cp:revision>
  <dc:subject/>
  <dc:title>ТВОРЧЕСКАЯ ДЕЯТЕЛЬНОСТЬ: ЗНАКОМСТВО С ТЕХНИКОЙ ИЗОНИТЬ</dc:title>
</cp:coreProperties>
</file>